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BA8-323C-4BAE-B81A-E31B00EF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EAB-4BE0-4537-8017-9C39D074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DB2-70B1-4E7E-A6A1-6E595BEE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5EC-D921-4DE0-9A38-E6BB6F96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F30-C2C5-4077-8BCF-0310AAE0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433-55AF-4BF7-9348-15C560D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A2AD-5424-4485-89F2-6DF414E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19DE-B7E3-4E50-8ECB-87151D10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094C-36D3-48B9-8B4C-585C834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23D-8FC4-4496-B54E-51F64D9C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956-EB81-4768-A461-324142F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4A9-F333-4905-9F26-C4774AF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C79-DBE7-423F-874E-0A12D4B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772B-9A23-469D-8894-62A89AE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0AB4-ECC0-44E6-971D-ADF2EFF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ED9-164A-49B6-AB85-2908BDF2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E47F-44E1-4C90-84D9-801B8D65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E8D-580E-4C59-BFFB-63E402B7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123-B2E9-4C98-93F0-1C3D1FF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A48-00B5-4BEA-9810-884A65F7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704-18D0-468E-82F2-8F575FA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7E9-E915-4549-BA42-EB9677A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786-FDA9-4500-BB0E-341A417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DB9-D7F2-4BE5-AAF0-2CCA24A9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CEC-36F4-4A45-B80E-10C89F68D2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244-7447-4FE3-A190-70747477AB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por Productos o Serv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8200" y="1768320"/>
          <a:ext cx="805644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768320"/>
                    <a:ext cx="805644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por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79400" y="1600200"/>
          <a:ext cx="734220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600200"/>
                    <a:ext cx="73422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grama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22400" y="1768320"/>
          <a:ext cx="709920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68320"/>
                    <a:ext cx="709920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AS FUNCIONALES DE LA EMPRE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03520"/>
            <a:ext cx="82296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RR.H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ECONÓMICA-FINANCI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58920" y="1413000"/>
            <a:ext cx="705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AS AREA FUN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CION DE RIESGOS LABOR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+D+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OAMB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ún el Sector de Actividad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Primar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También denominado extractivo, ya que el elemento básico de la actividad se obtiene directamente de la naturaleza: agricultura, ganadería, caza, pesca, extracción de áridos, agua, minerales, petróleo, energía eólica, et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Secundario o Industri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Se refiere a aquellas que realizan algún proceso de transformación de la materia prima. Abarca actividades tan diversas como la construcción, la óptica, la maderera, la textil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Terciario o de Servicio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cluye a las empresas cuyo principal elemento es la capacidad humana para realizar trabajos físicos o intelectuales. Comprende también una gran variedad de empresas, como las de transporte, bancos, comercio, seguros, hotelería, asesorías, educación, restaurantes, etc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gún el Tamañ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Grandes Empres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ás de 250 Trabajadores/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Mediana 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entre 50 y 249 trabajadores/as, la cifra de volumen de negocio no supera los 50 millones de euros, y el valor de su patrimonio no es superior a 43 millones de eur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Pequeña 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entre 10 y 49 trabajadores/as, y la cifra de volumen de negocio y el valor de su patrimonio no excede cada una de 10 millones de euro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Micro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menos de 10 trabajadores y siempre que la cifra de volumen de negocios y el valor de su patrimonio no exceda cada una de 2 millones de euro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gún la Propiedad del Capit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Privad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La propiedad del capital está en manos privadas 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Públic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Es el tipo de empresa en la que el capital le pertenece al Estado, que puede ser Estatal, Comunidad Autónoma o Municipal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Mixt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Es el tipo de empresa en la que la propiedad del capital es compartida entre el Estado y los particula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ún la forma jurídic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ona Fí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resario Individu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unidad de Bienes (C.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cieda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Limitada (S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Anónima (S.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Limitada Laboral (S.L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Anónima Laboral (S.A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perati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gún el Destino de los Benef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s con Ánimo de Lucr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Cuyos excedentes pasan a poder de los propietarios, accionistas, etc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s sin Ánimo de Lucr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En este caso los excedentes se vuelcan a la propia empresa para permitir su desarrol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mpre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epto de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mento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zación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ructura de la Empresa: Organi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ep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po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s Funcional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ificación de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sión, Visión y Val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puesto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403280" y="1412640"/>
            <a:ext cx="63374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ión, Visión y Valores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Misión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Define el negocio al que se dedica la organización, las necesidades que cubren con sus productos y servicios, el mercado en el cual se desarrolla la empresa y la imagen pública de la empresa u organ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ión de la empresa es la respuesta a la pregunta ,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¿Para que existe la organización?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e y describe la situación futura que desea tener la empresa, el propósito de la visión es guiar, controlar y alentar a la organización en su conjunto para alcanzar el estado deseable de la organizació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visión de la empresa es la respuesta a la pregunta, ¿Qué queremos que sea la organización en los próximos añ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Valor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Define el conjunto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principios, creencias, reglas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 que regulan la gestión de la organización. Constituyen la filosofía institucional y el soporte de la cultura organizac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básico de la definición de valores corporativos es el de tener un marco de referencia que inspire y regule la vida de la organización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EPTO DE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 conjunto d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son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e aportando una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pital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bienes),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tra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rabaj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se proponen (bajo un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rganizació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mún) el logro de unos determinado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que constituyen e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 la empresa y que se legitima por el doble hecho de añadir valor económico, es decir, crear riqueza y prestar unos servicios a la sociedad en la que la empresa está ubicada” (TERME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042560" y="1483920"/>
            <a:ext cx="705636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EMENTOS DE LA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16000" y="1773360"/>
          <a:ext cx="7386480" cy="47084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25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HUM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ietarios del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bajad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ENES ECONÓM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r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durade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junto de relaciones de autorid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tener benefic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durar en el 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tisfacer necesidade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ACIÓN DE LA EMPRE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17360"/>
            <a:ext cx="4040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da deliberadamente por la empr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6160" y="1846080"/>
            <a:ext cx="404028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ge espontáneamente entre los trabaj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484280"/>
            <a:ext cx="0" cy="482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RUCTURA DE LA EMPRESA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Organigrama de la empre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 la representación gráfica de la estructura formal de la empre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402920" y="1989000"/>
            <a:ext cx="59770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IPOS DE ORGANIGRA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RRITO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640" y="1484280"/>
            <a:ext cx="777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Fun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090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090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Terri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600200"/>
          <a:ext cx="822960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229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50:35Z</dcterms:created>
  <dc:creator>departamento1</dc:creator>
  <dc:description/>
  <dc:language>en-US</dc:language>
  <cp:lastModifiedBy>Maribel</cp:lastModifiedBy>
  <dcterms:modified xsi:type="dcterms:W3CDTF">2011-09-13T08:41:23Z</dcterms:modified>
  <cp:revision>20</cp:revision>
  <dc:subject/>
  <dc:title>El Entorno de Trabajo:  La Empresa </dc:title>
</cp:coreProperties>
</file>